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C72C0-88D4-41B7-B51C-303E4A83F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41160" y="188640"/>
            <a:ext cx="7364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a2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47640" y="1593720"/>
            <a:ext cx="735840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a38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47640" y="4244760"/>
            <a:ext cx="735840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a3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E56B6-BF2E-478E-A7E8-D2A1E7699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41160" y="188640"/>
            <a:ext cx="7364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a2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47640" y="1593720"/>
            <a:ext cx="359064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a3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18280" y="1593720"/>
            <a:ext cx="359064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a3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47640" y="4244760"/>
            <a:ext cx="359064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a38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18280" y="4244760"/>
            <a:ext cx="359064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a3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DF5FF-1F5B-4295-B8DE-3C2CCA6FD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41160" y="188640"/>
            <a:ext cx="7364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a2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47640" y="1593720"/>
            <a:ext cx="236916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a38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035600" y="1593720"/>
            <a:ext cx="236916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a38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3560" y="1593720"/>
            <a:ext cx="236916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a38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47640" y="4244760"/>
            <a:ext cx="236916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a38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035600" y="4244760"/>
            <a:ext cx="236916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a38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3560" y="4244760"/>
            <a:ext cx="236916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a3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65BA3-A89F-4EC2-906F-FC16EE7EB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88625-B905-4216-923B-CF2E4CBBA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41160" y="188640"/>
            <a:ext cx="7364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a2c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547640" y="1593720"/>
            <a:ext cx="7358400" cy="50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a3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E48F2-92F8-41C6-9A36-B3321D493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41160" y="188640"/>
            <a:ext cx="7364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a2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47640" y="1593720"/>
            <a:ext cx="7358400" cy="50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a3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44631-B0DB-456E-81E0-AA35DC55C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41160" y="188640"/>
            <a:ext cx="7364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a2c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547640" y="1593720"/>
            <a:ext cx="3590640" cy="50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a38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318280" y="1593720"/>
            <a:ext cx="3590640" cy="50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a3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F3CD5-CFDA-4983-9BB7-92FFC2111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41160" y="188640"/>
            <a:ext cx="7364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a2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2ACA9-327F-4A0C-BEB2-67DBFF5E4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541160" y="188640"/>
            <a:ext cx="736452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74a3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52000-5856-477B-8FCA-CD9163572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41160" y="188640"/>
            <a:ext cx="7364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a2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47640" y="1593720"/>
            <a:ext cx="359064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a38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318280" y="1593720"/>
            <a:ext cx="3590640" cy="50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a38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547640" y="4244760"/>
            <a:ext cx="359064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a3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0ADE5-93A0-4E22-9404-DD3127350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41160" y="188640"/>
            <a:ext cx="7364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a2c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47640" y="1593720"/>
            <a:ext cx="7358400" cy="50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a3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C67E3-0912-4E3F-974C-772A53A6A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41160" y="188640"/>
            <a:ext cx="7364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a2c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47640" y="1593720"/>
            <a:ext cx="3590640" cy="50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a38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18280" y="1593720"/>
            <a:ext cx="359064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a38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18280" y="4244760"/>
            <a:ext cx="359064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a3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B7C34-E0B8-48C6-80F4-10BEF2E07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41160" y="188640"/>
            <a:ext cx="7364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a2c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47640" y="1593720"/>
            <a:ext cx="359064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a38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18280" y="1593720"/>
            <a:ext cx="359064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a38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47640" y="4244760"/>
            <a:ext cx="735840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a3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BBC97-60AE-4672-AF00-6894B16F5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41160" y="188640"/>
            <a:ext cx="7364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a2c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47640" y="1593720"/>
            <a:ext cx="735840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a38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547640" y="4244760"/>
            <a:ext cx="735840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a3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B7868-4B71-4DBD-9CA8-C2785AD49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41160" y="188640"/>
            <a:ext cx="7364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a2c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47640" y="1593720"/>
            <a:ext cx="359064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a38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18280" y="1593720"/>
            <a:ext cx="359064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a38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547640" y="4244760"/>
            <a:ext cx="359064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a38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318280" y="4244760"/>
            <a:ext cx="359064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a3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17D3A-21C5-4634-97CE-BE05873E5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41160" y="188640"/>
            <a:ext cx="7364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a2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47640" y="1593720"/>
            <a:ext cx="236916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a38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035600" y="1593720"/>
            <a:ext cx="236916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a38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523560" y="1593720"/>
            <a:ext cx="236916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a38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547640" y="4244760"/>
            <a:ext cx="236916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a38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035600" y="4244760"/>
            <a:ext cx="236916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a38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523560" y="4244760"/>
            <a:ext cx="236916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a3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2BAAA-227B-4DBB-9F0A-A37F3BDF9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41160" y="188640"/>
            <a:ext cx="7364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a2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47640" y="1593720"/>
            <a:ext cx="7358400" cy="50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a3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F9529-421D-42A5-935E-B8FAB41F2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41160" y="188640"/>
            <a:ext cx="7364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a2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47640" y="1593720"/>
            <a:ext cx="3590640" cy="50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a38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18280" y="1593720"/>
            <a:ext cx="3590640" cy="50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a3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4EDEA-7FD9-482B-A2E7-1698ED54E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41160" y="188640"/>
            <a:ext cx="7364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a2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65192-B2C7-4048-B14B-B2076D8C1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541160" y="188640"/>
            <a:ext cx="736452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74a3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83131-85B2-4684-82CC-074C3A887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41160" y="188640"/>
            <a:ext cx="7364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a2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47640" y="1593720"/>
            <a:ext cx="359064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a38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18280" y="1593720"/>
            <a:ext cx="3590640" cy="50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a38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47640" y="4244760"/>
            <a:ext cx="359064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a3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F29E6-1ED3-4FA1-8005-AF081278F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41160" y="188640"/>
            <a:ext cx="7364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a2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47640" y="1593720"/>
            <a:ext cx="3590640" cy="50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a38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18280" y="1593720"/>
            <a:ext cx="359064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a38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18280" y="4244760"/>
            <a:ext cx="359064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a3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AD7C0-5F0A-41F7-9E13-5A98244DC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41160" y="188640"/>
            <a:ext cx="7364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a2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47640" y="1593720"/>
            <a:ext cx="359064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a38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18280" y="1593720"/>
            <a:ext cx="359064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a38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47640" y="4244760"/>
            <a:ext cx="735840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a3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7104A-0EAC-4FA8-9515-37A8EFADF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41160" y="188640"/>
            <a:ext cx="7364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3a2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23a2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47640" y="1593720"/>
            <a:ext cx="7358400" cy="50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eac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74a3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74a3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e4eac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74a3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74a3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e4eac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74a3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74a3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4eac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74a3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74a3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e4eac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74a3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74a3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474a3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74a3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74a3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474a3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74a3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74a3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74a38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74a38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74a38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74a38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74a38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95735-F2EA-4877-A747-CE5912ED2B15}" type="slidenum">
              <a:rPr b="0" lang="en-US" sz="1400" spc="-1" strike="noStrike">
                <a:solidFill>
                  <a:srgbClr val="474a3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920" y="4876920"/>
            <a:ext cx="8686800" cy="9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3a2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23a2c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74a38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74a38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74a38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74a38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74a38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A13BE-695F-4459-8155-5D6306A90FEE}" type="slidenum">
              <a:rPr b="0" lang="en-US" sz="1400" spc="-1" strike="noStrike">
                <a:solidFill>
                  <a:srgbClr val="474a3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74a3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74a3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74a3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74a3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e4eaca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74a3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74a3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e4eaca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74a3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74a3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e4eaca"/>
              </a:buClr>
              <a:buSzPct val="7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74a3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74a3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74a3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74a3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74a3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74a3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74a3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74a3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876920"/>
            <a:ext cx="8686800" cy="9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3a2c"/>
                </a:solidFill>
                <a:latin typeface="Tahoma"/>
              </a:rPr>
              <a:t>Estimation</a:t>
            </a:r>
            <a:endParaRPr b="0" lang="en-US" sz="4400" spc="-1" strike="noStrike">
              <a:solidFill>
                <a:srgbClr val="323a2c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04920" y="5733720"/>
            <a:ext cx="868680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74a38"/>
                </a:solidFill>
                <a:latin typeface="Tahoma"/>
              </a:rPr>
              <a:t>Algebra 1</a:t>
            </a:r>
            <a:endParaRPr b="0" lang="en-US" sz="2800" spc="-1" strike="noStrike">
              <a:solidFill>
                <a:srgbClr val="474a38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474a38"/>
                </a:solidFill>
                <a:latin typeface="Tahoma"/>
              </a:rPr>
              <a:t>Is my answer valid?</a:t>
            </a:r>
            <a:endParaRPr b="0" lang="en-US" sz="2800" spc="-1" strike="noStrike">
              <a:solidFill>
                <a:srgbClr val="474a3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41160" y="188640"/>
            <a:ext cx="7364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3a2c"/>
                </a:solidFill>
                <a:latin typeface="Tahoma"/>
              </a:rPr>
              <a:t>When am I going to use this?</a:t>
            </a:r>
            <a:endParaRPr b="0" lang="en-US" sz="4000" spc="-1" strike="noStrike">
              <a:solidFill>
                <a:srgbClr val="323a2c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1593720"/>
            <a:ext cx="8525160" cy="50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74a38"/>
                </a:solidFill>
                <a:latin typeface="Tahoma"/>
              </a:rPr>
              <a:t>You’re at a restaurant.  It’s time to leave.  The bill amounts to $16.  What do you tip?</a:t>
            </a:r>
            <a:endParaRPr b="0" lang="en-US" sz="3200" spc="-1" strike="noStrike">
              <a:solidFill>
                <a:srgbClr val="474a3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74a38"/>
                </a:solidFill>
                <a:latin typeface="Tahoma"/>
              </a:rPr>
              <a:t>…</a:t>
            </a:r>
            <a:r>
              <a:rPr b="0" lang="en-US" sz="3200" spc="-1" strike="noStrike">
                <a:solidFill>
                  <a:srgbClr val="474a38"/>
                </a:solidFill>
                <a:latin typeface="Tahoma"/>
              </a:rPr>
              <a:t>.if the service was poor?</a:t>
            </a:r>
            <a:endParaRPr b="0" lang="en-US" sz="3200" spc="-1" strike="noStrike">
              <a:solidFill>
                <a:srgbClr val="474a3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a3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74a38"/>
                </a:solidFill>
                <a:latin typeface="Tahoma"/>
              </a:rPr>
              <a:t>…</a:t>
            </a:r>
            <a:r>
              <a:rPr b="0" lang="en-US" sz="3200" spc="-1" strike="noStrike">
                <a:solidFill>
                  <a:srgbClr val="474a38"/>
                </a:solidFill>
                <a:latin typeface="Tahoma"/>
              </a:rPr>
              <a:t>.if the service was good?</a:t>
            </a:r>
            <a:endParaRPr b="0" lang="en-US" sz="3200" spc="-1" strike="noStrike">
              <a:solidFill>
                <a:srgbClr val="474a3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a3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74a38"/>
                </a:solidFill>
                <a:latin typeface="Tahoma"/>
              </a:rPr>
              <a:t>…</a:t>
            </a:r>
            <a:r>
              <a:rPr b="0" lang="en-US" sz="3200" spc="-1" strike="noStrike">
                <a:solidFill>
                  <a:srgbClr val="474a38"/>
                </a:solidFill>
                <a:latin typeface="Tahoma"/>
              </a:rPr>
              <a:t>.if the service was above and beyond your highest expectations?</a:t>
            </a:r>
            <a:endParaRPr b="0" lang="en-US" sz="3200" spc="-1" strike="noStrike">
              <a:solidFill>
                <a:srgbClr val="474a3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41160" y="188640"/>
            <a:ext cx="7364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3a2c"/>
                </a:solidFill>
                <a:latin typeface="Tahoma"/>
              </a:rPr>
              <a:t>Multiplying by 10</a:t>
            </a:r>
            <a:endParaRPr b="0" lang="en-US" sz="4400" spc="-1" strike="noStrike">
              <a:solidFill>
                <a:srgbClr val="323a2c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547640" y="1593720"/>
            <a:ext cx="7358400" cy="50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74a38"/>
                </a:solidFill>
                <a:latin typeface="Tahoma"/>
              </a:rPr>
              <a:t>How do you multiply by 10?</a:t>
            </a:r>
            <a:endParaRPr b="0" lang="en-US" sz="3200" spc="-1" strike="noStrike">
              <a:solidFill>
                <a:srgbClr val="474a38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a38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e4eaca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74a38"/>
                </a:solidFill>
                <a:latin typeface="Tahoma"/>
              </a:rPr>
              <a:t>38.25 * 10</a:t>
            </a:r>
            <a:endParaRPr b="0" lang="en-US" sz="3200" spc="-1" strike="noStrike">
              <a:solidFill>
                <a:srgbClr val="474a38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e4eaca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74a38"/>
                </a:solidFill>
                <a:latin typeface="Tahoma"/>
              </a:rPr>
              <a:t>723.5 * 100</a:t>
            </a:r>
            <a:endParaRPr b="0" lang="en-US" sz="3200" spc="-1" strike="noStrike">
              <a:solidFill>
                <a:srgbClr val="474a38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e4eaca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74a38"/>
                </a:solidFill>
                <a:latin typeface="Tahoma"/>
              </a:rPr>
              <a:t>7.3256 * 1000</a:t>
            </a:r>
            <a:endParaRPr b="0" lang="en-US" sz="3200" spc="-1" strike="noStrike">
              <a:solidFill>
                <a:srgbClr val="474a38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e4eaca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74a38"/>
                </a:solidFill>
                <a:latin typeface="Tahoma"/>
              </a:rPr>
              <a:t>85.251797 * 10,000</a:t>
            </a:r>
            <a:endParaRPr b="0" lang="en-US" sz="3200" spc="-1" strike="noStrike">
              <a:solidFill>
                <a:srgbClr val="474a3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41160" y="188640"/>
            <a:ext cx="7364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3a2c"/>
                </a:solidFill>
                <a:latin typeface="Tahoma"/>
              </a:rPr>
              <a:t>Multiplying by 10</a:t>
            </a:r>
            <a:endParaRPr b="0" lang="en-US" sz="4400" spc="-1" strike="noStrike">
              <a:solidFill>
                <a:srgbClr val="323a2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547640" y="1593720"/>
            <a:ext cx="7358400" cy="50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74a38"/>
                </a:solidFill>
                <a:latin typeface="Tahoma"/>
              </a:rPr>
              <a:t>What if the power of 10 is &lt; 1?</a:t>
            </a:r>
            <a:endParaRPr b="0" lang="en-US" sz="3200" spc="-1" strike="noStrike">
              <a:solidFill>
                <a:srgbClr val="474a38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a38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e4eaca"/>
              </a:buClr>
              <a:buSzPct val="75000"/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74a38"/>
                </a:solidFill>
                <a:latin typeface="Tahoma"/>
              </a:rPr>
              <a:t>38.25 * 0.1</a:t>
            </a:r>
            <a:endParaRPr b="0" lang="en-US" sz="3200" spc="-1" strike="noStrike">
              <a:solidFill>
                <a:srgbClr val="474a38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e4eaca"/>
              </a:buClr>
              <a:buSzPct val="75000"/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74a38"/>
                </a:solidFill>
                <a:latin typeface="Tahoma"/>
              </a:rPr>
              <a:t>723.5 * 0.001</a:t>
            </a:r>
            <a:endParaRPr b="0" lang="en-US" sz="3200" spc="-1" strike="noStrike">
              <a:solidFill>
                <a:srgbClr val="474a38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e4eaca"/>
              </a:buClr>
              <a:buSzPct val="75000"/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74a38"/>
                </a:solidFill>
                <a:latin typeface="Tahoma"/>
              </a:rPr>
              <a:t>85.251797 * 0.01</a:t>
            </a:r>
            <a:endParaRPr b="0" lang="en-US" sz="3200" spc="-1" strike="noStrike">
              <a:solidFill>
                <a:srgbClr val="474a38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e4eaca"/>
              </a:buClr>
              <a:buSzPct val="75000"/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74a38"/>
                </a:solidFill>
                <a:latin typeface="Tahoma"/>
              </a:rPr>
              <a:t>32526.1 * 0.0001</a:t>
            </a:r>
            <a:endParaRPr b="0" lang="en-US" sz="3200" spc="-1" strike="noStrike">
              <a:solidFill>
                <a:srgbClr val="474a38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a3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41160" y="188640"/>
            <a:ext cx="7364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3a2c"/>
                </a:solidFill>
                <a:latin typeface="Tahoma"/>
              </a:rPr>
              <a:t>Multiplying by ½ or 0.5</a:t>
            </a:r>
            <a:endParaRPr b="0" lang="en-US" sz="4400" spc="-1" strike="noStrike">
              <a:solidFill>
                <a:srgbClr val="323a2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547640" y="1593720"/>
            <a:ext cx="7358400" cy="50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74a38"/>
                </a:solidFill>
                <a:latin typeface="Tahoma"/>
              </a:rPr>
              <a:t>Multiplying by ½ or 0.5 is like taking half.</a:t>
            </a:r>
            <a:endParaRPr b="0" lang="en-US" sz="3200" spc="-1" strike="noStrike">
              <a:solidFill>
                <a:srgbClr val="474a38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a38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e4eaca"/>
              </a:buClr>
              <a:buSzPct val="75000"/>
              <a:buFont typeface="Tahoma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74a38"/>
                </a:solidFill>
                <a:latin typeface="Tahoma"/>
              </a:rPr>
              <a:t>84 * 0.5</a:t>
            </a:r>
            <a:endParaRPr b="0" lang="en-US" sz="3200" spc="-1" strike="noStrike">
              <a:solidFill>
                <a:srgbClr val="474a38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e4eaca"/>
              </a:buClr>
              <a:buSzPct val="75000"/>
              <a:buFont typeface="Tahoma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74a38"/>
                </a:solidFill>
                <a:latin typeface="Tahoma"/>
              </a:rPr>
              <a:t>126 * ½ </a:t>
            </a:r>
            <a:endParaRPr b="0" lang="en-US" sz="3200" spc="-1" strike="noStrike">
              <a:solidFill>
                <a:srgbClr val="474a38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e4eaca"/>
              </a:buClr>
              <a:buSzPct val="75000"/>
              <a:buFont typeface="Tahoma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74a38"/>
                </a:solidFill>
                <a:latin typeface="Tahoma"/>
              </a:rPr>
              <a:t>4826 * ½</a:t>
            </a:r>
            <a:endParaRPr b="0" lang="en-US" sz="3200" spc="-1" strike="noStrike">
              <a:solidFill>
                <a:srgbClr val="474a38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e4eaca"/>
              </a:buClr>
              <a:buSzPct val="75000"/>
              <a:buFont typeface="Tahoma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74a38"/>
                </a:solidFill>
                <a:latin typeface="Tahoma"/>
              </a:rPr>
              <a:t>35684 * 0.5</a:t>
            </a:r>
            <a:endParaRPr b="0" lang="en-US" sz="3200" spc="-1" strike="noStrike">
              <a:solidFill>
                <a:srgbClr val="474a3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41160" y="188640"/>
            <a:ext cx="7364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3a2c"/>
                </a:solidFill>
                <a:latin typeface="Tahoma"/>
              </a:rPr>
              <a:t>Multiplying by 15</a:t>
            </a:r>
            <a:endParaRPr b="0" lang="en-US" sz="4400" spc="-1" strike="noStrike">
              <a:solidFill>
                <a:srgbClr val="323a2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547640" y="1593720"/>
            <a:ext cx="7358400" cy="50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e4eac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74a38"/>
                </a:solidFill>
                <a:latin typeface="Tahoma"/>
              </a:rPr>
              <a:t>Multiply by 10 and then take half of that answer.  </a:t>
            </a:r>
            <a:endParaRPr b="0" lang="en-US" sz="3200" spc="-1" strike="noStrike">
              <a:solidFill>
                <a:srgbClr val="474a38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e4eac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74a38"/>
                </a:solidFill>
                <a:latin typeface="Tahoma"/>
              </a:rPr>
              <a:t>Add the 2 values.</a:t>
            </a:r>
            <a:endParaRPr b="0" lang="en-US" sz="3200" spc="-1" strike="noStrike">
              <a:solidFill>
                <a:srgbClr val="474a38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e4eaca"/>
              </a:buClr>
              <a:buSzPct val="75000"/>
              <a:buFont typeface="Tahom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74a38"/>
                </a:solidFill>
                <a:latin typeface="Tahoma"/>
              </a:rPr>
              <a:t>12 * 15</a:t>
            </a:r>
            <a:endParaRPr b="0" lang="en-US" sz="3200" spc="-1" strike="noStrike">
              <a:solidFill>
                <a:srgbClr val="474a38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e4eaca"/>
              </a:buClr>
              <a:buSzPct val="75000"/>
              <a:buFont typeface="Tahom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74a38"/>
                </a:solidFill>
                <a:latin typeface="Tahoma"/>
              </a:rPr>
              <a:t>24 * 15</a:t>
            </a:r>
            <a:endParaRPr b="0" lang="en-US" sz="3200" spc="-1" strike="noStrike">
              <a:solidFill>
                <a:srgbClr val="474a38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e4eaca"/>
              </a:buClr>
              <a:buSzPct val="75000"/>
              <a:buFont typeface="Tahom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74a38"/>
                </a:solidFill>
                <a:latin typeface="Tahoma"/>
              </a:rPr>
              <a:t>76 * 15</a:t>
            </a:r>
            <a:endParaRPr b="0" lang="en-US" sz="3200" spc="-1" strike="noStrike">
              <a:solidFill>
                <a:srgbClr val="474a38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e4eaca"/>
              </a:buClr>
              <a:buSzPct val="75000"/>
              <a:buFont typeface="Tahom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74a38"/>
                </a:solidFill>
                <a:latin typeface="Tahoma"/>
              </a:rPr>
              <a:t>1250 * 15</a:t>
            </a:r>
            <a:endParaRPr b="0" lang="en-US" sz="3200" spc="-1" strike="noStrike">
              <a:solidFill>
                <a:srgbClr val="474a3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41160" y="188640"/>
            <a:ext cx="7364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3a2c"/>
                </a:solidFill>
                <a:latin typeface="Tahoma"/>
              </a:rPr>
              <a:t>When am I going to use this?</a:t>
            </a:r>
            <a:endParaRPr b="0" lang="en-US" sz="4000" spc="-1" strike="noStrike">
              <a:solidFill>
                <a:srgbClr val="323a2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520" y="1593720"/>
            <a:ext cx="8525160" cy="50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74a38"/>
                </a:solidFill>
                <a:latin typeface="Tahoma"/>
              </a:rPr>
              <a:t>You’re at a restaurant.  It’s time to leave.  The bill amounts to $36.  What do you tip?</a:t>
            </a:r>
            <a:endParaRPr b="0" lang="en-US" sz="3200" spc="-1" strike="noStrike">
              <a:solidFill>
                <a:srgbClr val="474a3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74a38"/>
                </a:solidFill>
                <a:latin typeface="Tahoma"/>
              </a:rPr>
              <a:t>…</a:t>
            </a:r>
            <a:r>
              <a:rPr b="0" lang="en-US" sz="3200" spc="-1" strike="noStrike">
                <a:solidFill>
                  <a:srgbClr val="474a38"/>
                </a:solidFill>
                <a:latin typeface="Tahoma"/>
              </a:rPr>
              <a:t>.if the service was poor?</a:t>
            </a:r>
            <a:endParaRPr b="0" lang="en-US" sz="3200" spc="-1" strike="noStrike">
              <a:solidFill>
                <a:srgbClr val="474a3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a3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74a38"/>
                </a:solidFill>
                <a:latin typeface="Tahoma"/>
              </a:rPr>
              <a:t>…</a:t>
            </a:r>
            <a:r>
              <a:rPr b="0" lang="en-US" sz="3200" spc="-1" strike="noStrike">
                <a:solidFill>
                  <a:srgbClr val="474a38"/>
                </a:solidFill>
                <a:latin typeface="Tahoma"/>
              </a:rPr>
              <a:t>.if the service was good?</a:t>
            </a:r>
            <a:endParaRPr b="0" lang="en-US" sz="3200" spc="-1" strike="noStrike">
              <a:solidFill>
                <a:srgbClr val="474a3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a3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74a38"/>
                </a:solidFill>
                <a:latin typeface="Tahoma"/>
              </a:rPr>
              <a:t>…</a:t>
            </a:r>
            <a:r>
              <a:rPr b="0" lang="en-US" sz="3200" spc="-1" strike="noStrike">
                <a:solidFill>
                  <a:srgbClr val="474a38"/>
                </a:solidFill>
                <a:latin typeface="Tahoma"/>
              </a:rPr>
              <a:t>.if the service was above and beyond your highest expectations?</a:t>
            </a:r>
            <a:endParaRPr b="0" lang="en-US" sz="3200" spc="-1" strike="noStrike">
              <a:solidFill>
                <a:srgbClr val="474a3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41160" y="188640"/>
            <a:ext cx="7364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3a2c"/>
                </a:solidFill>
                <a:latin typeface="Tahoma"/>
              </a:rPr>
              <a:t>Estimation of Answers</a:t>
            </a:r>
            <a:endParaRPr b="0" lang="en-US" sz="4400" spc="-1" strike="noStrike">
              <a:solidFill>
                <a:srgbClr val="323a2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520" y="1593720"/>
            <a:ext cx="8525160" cy="50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e4eac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74a38"/>
                </a:solidFill>
                <a:latin typeface="Tahoma"/>
              </a:rPr>
              <a:t>Round each value and complete the operation.</a:t>
            </a:r>
            <a:endParaRPr b="0" lang="en-US" sz="3200" spc="-1" strike="noStrike">
              <a:solidFill>
                <a:srgbClr val="474a38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e4eaca"/>
              </a:buClr>
              <a:buSzPct val="75000"/>
              <a:buFont typeface="Tahoma"/>
              <a:buAutoNum type="arabi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74a38"/>
                </a:solidFill>
                <a:latin typeface="Tahoma"/>
              </a:rPr>
              <a:t>82 * 98</a:t>
            </a:r>
            <a:endParaRPr b="0" lang="en-US" sz="3200" spc="-1" strike="noStrike">
              <a:solidFill>
                <a:srgbClr val="474a38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e4eaca"/>
              </a:buClr>
              <a:buSzPct val="75000"/>
              <a:buFont typeface="Tahoma"/>
              <a:buAutoNum type="arabi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74a38"/>
                </a:solidFill>
                <a:latin typeface="Tahoma"/>
              </a:rPr>
              <a:t>898 * 47</a:t>
            </a:r>
            <a:endParaRPr b="0" lang="en-US" sz="3200" spc="-1" strike="noStrike">
              <a:solidFill>
                <a:srgbClr val="474a38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e4eaca"/>
              </a:buClr>
              <a:buSzPct val="75000"/>
              <a:buFont typeface="Tahoma"/>
              <a:buAutoNum type="arabi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74a38"/>
                </a:solidFill>
                <a:latin typeface="Tahoma"/>
              </a:rPr>
              <a:t>635 * 58</a:t>
            </a:r>
            <a:endParaRPr b="0" lang="en-US" sz="3200" spc="-1" strike="noStrike">
              <a:solidFill>
                <a:srgbClr val="474a38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e4eaca"/>
              </a:buClr>
              <a:buSzPct val="75000"/>
              <a:buFont typeface="Tahoma"/>
              <a:buAutoNum type="arabi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74a38"/>
                </a:solidFill>
                <a:latin typeface="Tahoma"/>
              </a:rPr>
              <a:t>1237 * 403</a:t>
            </a:r>
            <a:endParaRPr b="0" lang="en-US" sz="3200" spc="-1" strike="noStrike">
              <a:solidFill>
                <a:srgbClr val="474a38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e4eaca"/>
              </a:buClr>
              <a:buSzPct val="75000"/>
              <a:buFont typeface="Tahoma"/>
              <a:buAutoNum type="arabi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74a38"/>
                </a:solidFill>
                <a:latin typeface="Tahoma"/>
              </a:rPr>
              <a:t>602 * 992,375</a:t>
            </a:r>
            <a:endParaRPr b="0" lang="en-US" sz="3200" spc="-1" strike="noStrike">
              <a:solidFill>
                <a:srgbClr val="474a38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a3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41160" y="188640"/>
            <a:ext cx="7364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3a2c"/>
                </a:solidFill>
                <a:latin typeface="Tahoma"/>
              </a:rPr>
              <a:t>Examples</a:t>
            </a:r>
            <a:br>
              <a:rPr sz="4000"/>
            </a:br>
            <a:r>
              <a:rPr b="0" lang="en-US" sz="2400" spc="-1" strike="noStrike">
                <a:solidFill>
                  <a:srgbClr val="323a2c"/>
                </a:solidFill>
                <a:latin typeface="Tahoma"/>
              </a:rPr>
              <a:t>What is the approximate cost of…</a:t>
            </a:r>
            <a:endParaRPr b="0" lang="en-US" sz="2400" spc="-1" strike="noStrike">
              <a:solidFill>
                <a:srgbClr val="323a2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257800" y="1593720"/>
            <a:ext cx="3648240" cy="50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e4eaca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74a38"/>
                </a:solidFill>
                <a:latin typeface="Tahoma"/>
              </a:rPr>
              <a:t>6 Cracker Jacks</a:t>
            </a:r>
            <a:endParaRPr b="0" lang="en-US" sz="2400" spc="-1" strike="noStrike">
              <a:solidFill>
                <a:srgbClr val="474a38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e4eaca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74a38"/>
                </a:solidFill>
                <a:latin typeface="Tahoma"/>
              </a:rPr>
              <a:t>2 Maxwell Coffees</a:t>
            </a:r>
            <a:endParaRPr b="0" lang="en-US" sz="2400" spc="-1" strike="noStrike">
              <a:solidFill>
                <a:srgbClr val="474a38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e4eaca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74a38"/>
                </a:solidFill>
                <a:latin typeface="Tahoma"/>
              </a:rPr>
              <a:t>8 Vienna Sausages</a:t>
            </a:r>
            <a:endParaRPr b="0" lang="en-US" sz="2400" spc="-1" strike="noStrike">
              <a:solidFill>
                <a:srgbClr val="474a38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e4eaca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74a38"/>
                </a:solidFill>
                <a:latin typeface="Tahoma"/>
              </a:rPr>
              <a:t>15 Pringles</a:t>
            </a:r>
            <a:endParaRPr b="0" lang="en-US" sz="2400" spc="-1" strike="noStrike">
              <a:solidFill>
                <a:srgbClr val="474a38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e4eaca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74a38"/>
                </a:solidFill>
                <a:latin typeface="Tahoma"/>
              </a:rPr>
              <a:t>4 Oscar Meyer bacon</a:t>
            </a:r>
            <a:endParaRPr b="0" lang="en-US" sz="2400" spc="-1" strike="noStrike">
              <a:solidFill>
                <a:srgbClr val="474a38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a38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74a38"/>
                </a:solidFill>
                <a:latin typeface="Tahoma"/>
              </a:rPr>
              <a:t>Answers:</a:t>
            </a:r>
            <a:endParaRPr b="0" lang="en-US" sz="3200" spc="-1" strike="noStrike">
              <a:solidFill>
                <a:srgbClr val="474a38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rcRect l="33746" t="47995" r="44994" b="17998"/>
          <a:stretch/>
        </p:blipFill>
        <p:spPr>
          <a:xfrm>
            <a:off x="228600" y="1523880"/>
            <a:ext cx="487692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1T19:05:01Z</dcterms:created>
  <dc:creator>Connie Dolezal</dc:creator>
  <dc:description/>
  <dc:language>en-US</dc:language>
  <cp:lastModifiedBy>Connie Dolezal</cp:lastModifiedBy>
  <dcterms:modified xsi:type="dcterms:W3CDTF">2008-09-02T01:35:05Z</dcterms:modified>
  <cp:revision>4</cp:revision>
  <dc:subject/>
  <dc:title>Estimation</dc:title>
</cp:coreProperties>
</file>